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F87-CA6D-46AF-9662-A2810987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348-A823-4A1C-8F8F-226296D6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DE5-6343-432F-85D8-6C2D6192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07F-F364-4515-96F7-7E6E2DDF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B7B-B2E2-480B-B712-D1F4918E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8FD-5E3A-450A-9E00-BEAA5CB7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38F-B6D5-405D-BFB6-AF06BBB0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D79-D92C-4400-921C-92140260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B72-1EB2-4630-AAF9-5E5A3B0C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979-3DE2-4F1E-8C1F-08DB8A6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F07-51ED-437E-99D1-61C8F19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590-F8C7-4EE9-AADD-EA9C1357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D4BD-CE04-40D2-9E15-DE2708A2E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earning Technique by Stephan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earning Technique is Abstract Ran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 like to dream, I’m crea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able to do many things at on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situations in shades of g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lik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ensitive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able to follow guidelines with little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\Right Side Dom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ominate side is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cre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n Abstract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earning style is Audi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 that 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better by someone saying things alou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earn by hear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listening to someone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Type of Intelligenc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ype of Intelligence is Creative Intellig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6:05Z</dcterms:created>
  <dc:creator>student</dc:creator>
  <dc:description/>
  <dc:language>en-US</dc:language>
  <cp:lastModifiedBy>Joni George</cp:lastModifiedBy>
  <dcterms:modified xsi:type="dcterms:W3CDTF">2010-11-04T19:14:59Z</dcterms:modified>
  <cp:revision>4</cp:revision>
  <dc:subject/>
  <dc:title>My Fifth Grade Powerpoint by Stephanie Ann Rhodes</dc:title>
</cp:coreProperties>
</file>